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5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4FDD-CD06-4526-9474-2054D5B9A4E3}" type="datetime">
              <a:rPr b="0" sz="1800" spc="-1" strike="noStrike">
                <a:solidFill>
                  <a:srgbClr val="000000"/>
                </a:solidFill>
                <a:latin typeface="Arial"/>
              </a:rPr>
              <a:t>07/30/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296F-E2BC-4394-A0F9-A6F9CBF40C1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380880" y="685800"/>
            <a:ext cx="6094440" cy="3429000"/>
          </a:xfrm>
          <a:prstGeom prst="rect">
            <a:avLst/>
          </a:prstGeom>
          <a:ln w="0">
            <a:noFill/>
          </a:ln>
        </p:spPr>
      </p:sp>
      <p:sp>
        <p:nvSpPr>
          <p:cNvPr id="1050"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51"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FDF2-4889-4BBA-9725-DBAFDD4083DB}"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380880" y="685800"/>
            <a:ext cx="6094440" cy="3429000"/>
          </a:xfrm>
          <a:prstGeom prst="rect">
            <a:avLst/>
          </a:prstGeom>
          <a:ln w="0">
            <a:noFill/>
          </a:ln>
        </p:spPr>
      </p:sp>
      <p:sp>
        <p:nvSpPr>
          <p:cNvPr id="1053"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54"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79B9-CF02-44EC-A585-AC5E7889C531}"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0245F-D161-40BD-9339-16DA5B952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F95E8-49CE-4133-9BFF-D7D31D7F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81D218-4D46-4B9B-8E95-CA2A108D2C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EC1829-A457-4AB8-812F-29B664C83F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81135A-455C-4E60-9E27-181854B233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E5176E-533D-417E-A917-80EC41EF7A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B5A8B7-3E26-4B15-860A-03384D3551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215D00-05BA-4B96-A506-6C5DBF3002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41B7DA-7AFE-44D1-A831-FB212CF5DC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3B5222-283A-4B5D-930D-2265A2C81C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814F3C-DEA3-42AF-8491-8DFD69257C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25D37D-23B4-4536-9DFC-DF5C4D187E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F5100-EE01-4CE5-8E5E-C74D4440B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C97A28-BA25-4DDA-8239-949ED75318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01673D-6303-4DB5-97D4-42DFCF3262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7D0462-6526-4D25-BB2D-792C528717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D387A8-6F93-48AC-BFF3-F029419E5E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ED03FE-C0E1-4F83-8FA1-25F90C62B5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0A926A-90C9-4C3B-A3F4-3A8F34752F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54C8B9-EFDE-421B-9CA2-846ECEE6CF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FB1FC0-596B-4FB9-B2D6-03247428F0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15044B-86C6-4C02-9196-7DD5D91814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D9BB13-0F2C-4222-BD72-6376DDA692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0158F-D601-401B-9FC8-C4C87C1E9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A008D6-C6AB-4623-B04C-23B7CF2D5A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1EB70F-F8AE-4E42-B4FA-9B14A99677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B46FC1-10E0-4DC2-9CA8-EA2103555A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4BCC2F-53B2-42BA-BE0A-C0483E0498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266E56-1FB2-4F8D-BA91-ED107FD45E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F8D84F-424B-455C-92C1-597A0A8710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309CB4-E4A6-44B3-B9AE-A77F7C18A2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E8558F-7E10-4CAA-9BA0-E8C6277D73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41F551-DD5D-4E22-8084-53B5954647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BCBE4E-4872-4EE8-ADCC-9383BDD8D1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0D7DC-0B2A-4491-96F7-585A09829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3D5870-D1B9-48D1-AAFE-C925E32A0E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8B9C33-8558-4A9B-9DAF-B74FA04F82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FC9D0B4-4684-4448-9C58-9B4BB5FD355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66F0C4-508C-4210-9B79-43308C859B8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A94279-7A84-431A-AEFC-1A8E72FE56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43D297-D954-4EAE-B033-00C818AF67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A7AEC0-EE1C-486B-960E-CDAFA6AA81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F8325E-2C41-4B85-BC1E-2B433EA8CA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7163B1-D89C-4055-A9BD-AF405391E2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0C4613-BEC6-4CF3-8943-1CC0CB1100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19C55-CD63-486F-AB6D-9E2ABD46D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86E18C-72BE-412B-93C1-A783473924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425469-D3BE-40C1-BBEF-58EABBE9AF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F84D51-93B8-46B5-B4B2-62D2864C75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1CB8C3B-3832-45A0-9B37-C86E67C5EC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1D6CA32-6BF8-4541-9D60-D71C9958E1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07FD932-8DDE-4030-8AFC-F094A4EB6C0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BC0419-3BF5-4D4D-8AEA-08AEBF1BB1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4583DC-9F57-4805-9DAA-3B1DBE2BE3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A5AA91-9B33-469D-8B10-9E04F1334E3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B7371E9-436E-424F-A05E-B08B5D4BC4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7A14F-7CC2-4FB6-A275-6F94E3AE2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4EE5A6-D7B9-4EAD-A711-04C2FA5B5F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CEEB0E-9AAC-4CA9-9967-6F9D169FE0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EB0C7C-2E88-41BE-BC0E-4D8B64DB33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234B42-E159-4953-B301-0887071FDA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95069D-5B40-4552-AFBF-3000E9BE46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17ACCDF-1635-44FD-97FD-D1CA4652BF8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AA636A-AF00-4433-8852-064C2D35C7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6D98DB1-F9E2-4043-9EC3-2468B0735DC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0E579B-5679-4FB7-ABA1-0CC5976681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8E2318-0536-4251-A9D0-FA80107C8E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BF1FB-B57D-4105-AE99-27D9AF386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467A1D-7AA7-4C50-85F0-779C6D6882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8BFAF6-DCD0-4839-B65E-5C3C85FDDC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19F2A3-5118-4FEB-8619-83FAC818F9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A4633C-64D3-4918-9308-0FD6EA5974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EF2B2E-16B8-491A-9F76-13488D799E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CE6565-723C-47E9-8015-201E5F82A6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648E19-7396-4C2E-8206-8E9B4BB8BC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8B0520B-91BA-4A66-BD20-D5B854361A9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0B5D8A-896F-441F-BD77-9B7E6495A40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9307B83-2836-4449-B1A5-004397CCDF7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5C3D7-5A3B-4D04-8698-D96CD083A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3A47CE-4B45-4269-9B14-8E0908B687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5F81D9-0D21-42C9-AA3B-50C5018915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1C075A2-70C3-4C70-AD66-09E56291FB7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894284B-B0F0-493E-9922-04A9E40AB1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9107A03-FF7D-4E31-B8D3-BF015F6B3E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1AE173-691B-40FD-AE30-D34067A46A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24418B-AE5C-48A9-908A-27A3217F9D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D9E90A-6869-4A0E-BAC0-332004C7B2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51A8E37-7B57-45F6-A029-F3A73C6B28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199AAAA-88E9-44A6-A879-6FCFD3C6933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CD72C-8D1B-41AF-A272-2B3A6C979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C10CF90-C3EA-4F5A-B171-FC108EDDF9C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927845E-4DCA-4CB1-A52D-F4BA97D640C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B5973E-3CFE-4302-8BFE-27CA2F145C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2ABF3C-97F5-4383-8444-02F4E0BCCF7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57657E-CE43-4C84-845F-20EAC856127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A1B3F1E-BB7C-4F76-AA41-EAE0B9E97AA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7C094EB-626C-415E-A708-F14DB8B52A3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5B482AD-4A89-4B17-B0D5-23F8286E33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F79FF3-BA49-4C90-81BC-765FDB5BD9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8D182C-8EE7-430E-B2D6-67069F6DED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CBAB0-01C1-42BE-A5F7-5B4A5B57D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3F0DBB-2F5F-4CB7-9D58-4EFB17B799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BC3366B-B126-4281-9CA8-5C5087292A6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19F5A01-DEC9-4E33-B127-3E915C9C107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0622F2D-09BC-4DF0-BCA7-EE024368BEA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422505E-5516-4AE6-A858-9F79E6844B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72C4D46-0668-4316-B19A-A6FE33CABB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12DAFDD-472D-4A1A-A12F-33760A84CE5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7F1DAF2-9283-4E98-96E9-46C8CE85D0B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8C4D816-4D3C-42DB-B48B-A8293E7F4DD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3D64D0C-EB10-4982-BBD9-512BE599E9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361D5-AB7F-4569-A670-48085E0BB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081A1-5B2B-469A-A42C-164C7178B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9D5590B-33E9-420A-9391-2A5017DD49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341A17-B657-41D6-ABE7-F79CE6ED1C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538F0A-7FFC-4B9D-BDEA-AB133387F4E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A4D4BC9-5153-4D6B-B7D6-5A95FFCFED0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73D8C73-C643-409B-AA9E-AA525FDC378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2D7ACC3-6693-42C0-B45A-402FA2346DF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AFD7FF6-3E15-4B7C-BC1D-4C9B97FB63F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9D1784A-0BC1-445C-B9A5-8E27977708E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8928FC4-C703-4092-9DAC-A5106F0284D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B54015C-D6C8-4DD7-AF64-614736E83F4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2BCD2-B005-4261-A6E2-59121EF8D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91B1796-E9EC-4D1A-BBD7-7D82BADBF30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DDAD14-A5A1-46A1-B69D-032055AA9F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3860C2B-CE60-476D-A69D-D7B4A5B1F4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3246AC-604D-44CB-B6EF-31E6FD03E2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9B9674D-4219-4B3F-8197-A36F1F1FF6D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D5C1C4A-365C-489D-9BF6-D846CD1BB82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77B0438-0DF1-4371-B0F8-5A88B7A5F65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4E4846E-0F80-4460-A8B0-3ECA898224C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23C4D24-C352-4A92-B4D7-AEADA18E9C3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AAC09AA-6EED-4BC4-8C93-014A426DAB3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F707D-F7E5-4096-ADA2-42D45FF0B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81BD04B-5764-4D6D-A16B-4F09E1E76C7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ACCD516-F291-42D8-B1B4-11D814B15A7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60FD9AA-D0DC-40E8-A679-C11EFC25B93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8E1AD6C-FBC5-4ED7-ACB2-1C46F2266F4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DE2CC19-092D-4341-9706-0EAD16890DB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F09EE8B-5294-4D5E-9838-D12EDA0AD54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AC813CB-595D-4076-8BC2-BE0C232CFC1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6E7BB92-7D29-467C-A3F7-441D7772964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B5B3EC3-DFE3-40B4-8237-626CC3ED6E4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963BECD-3239-4B85-95C8-E2064F2999A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ABF56-E063-41BE-BE12-8D0BDA256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D4C08C7-F404-4502-8C9E-B27535C3414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B7C9944-72AA-4DC2-9F95-85E6A69709E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426A971-8BA0-4F83-93AB-561D354BB53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E065D7B-AD51-4FB8-A128-E166D066407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D166CE6-45AE-4B35-B97F-CE06F96C465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90DD961-4F42-4BC1-8DBA-91069992354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A8E3E2E-5C5C-4D80-A2ED-E96567C8270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39EF66-F21D-408A-91AB-BEDB7480AFD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450C482-BEE1-4A6D-AC80-142875A73FC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02D0BD6-9B56-4227-A4E0-C1DE4871CC0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FA79A-5749-44F4-ACDE-CC39FC59D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B49DA3C-FD32-438F-B42B-A262CDFEEEB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82412E-F094-4A4B-96B4-A7548A17A8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995F3C-43AB-45ED-8C99-391B91C4F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216A4-ED14-4905-9670-3DCDD5E09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10FBB-2070-482F-BED4-0BA4132A3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C6AA66-6151-4A6D-BFEB-50353A0D4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CBBBC-4B9D-4E61-A7F8-8F6589068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0993D-3350-4463-825B-E8E5323F2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1CEA4-0962-4009-9130-50A0700A9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80C6B-982F-49D0-A5FF-2D59CF759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80589-7EAA-46DF-9224-75731A15D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B3503C-4F54-4ED0-85BB-4875F44DD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FE8BA1-2512-4A5B-9753-161EAB4336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06E9DD-D2E1-4086-BB72-2AB0394571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34E942-D6AB-48A9-85DC-61491896BA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52181E-B4B6-407D-8E7C-E15765800F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A1DAC-F02B-497F-A5AB-48E382279B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1EACB-06FB-4DFA-9868-8943D9706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2E86FF-EAB4-4557-92AC-01254E734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6CC02-4458-4D2F-B5E9-2C97693EB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09C95-F2C8-498B-A284-042F6ABF1C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020ED-1248-4A6E-8969-673A02C9F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8219F-AE57-49B9-814B-8B99889CA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B50AA-6A12-4E3A-AB47-525C2BBC4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9559EE-E472-4BDF-AAC6-23547F4E1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062D0A-BA56-4763-BC95-2EEAF693BB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AC0849-D833-46F7-97F4-0ACEAB23BD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897EE2-67E5-4F8C-A844-AA0C39A2F3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81699-F475-4566-9D42-FDB750ED2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3B5180-F55A-4511-BDB9-CDCA30EFA1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059BA8-7E50-4C59-BB6F-620F90A232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CA3FAB-D563-4E17-8B04-C51BE2B892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0C7F4-C91A-42B1-B10E-3DDFDF007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24807E-E088-41F6-B89A-4F7A3759F7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C5827B-2638-49C4-A6D5-F0F571558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B979A3-EAE8-478E-B51A-FBBACD248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96A8C-2FE3-4A6C-83DE-4D5C8A6C0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29B021-7FF3-4A18-B905-C1DEA7DB9F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2B00C9-FB1B-4E90-843F-5B6BB059C4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66583-8716-4E2B-AA1F-84ECB97EB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56D304-8D64-4847-B9B7-5E1A362789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DE2140-57F6-4CAD-A737-7A88CB0851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3FA142-B85F-4C3F-9EDB-87CBC6D186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3279F-1485-4DDF-B033-0D42DA22D2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F4B92D-23BB-472E-9759-A148A0F888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D5CDA-9227-4064-8842-82190A869A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8164E8-E4AF-4223-B640-8E400186D0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280F7-6A6E-4ECF-872D-B5F56AC19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07F06-0B48-4391-89EF-463092736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CFDA0D-347A-4421-AA5A-C7141B1C6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94AF3-C8F5-4211-A451-49F4935B8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E0609-EA17-4894-83EF-C592541054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6C996A-E05B-46E6-B18C-8F3420D4C1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A3F0B7-CDFB-43D1-A3F0-E1310969A6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CA12C2-DDCC-4C67-815F-45F17608D7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B09A23-9518-45BA-851D-9BE1ED44AB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906FF0-0D25-454A-8ED8-4F28A86051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7EEB59-675A-48B4-A09F-3CD5409A15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10636C-5A8E-47A1-AF29-E5DB6B631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0C86CF-B1E1-47D6-A4C1-2ECBEEFCD2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5A36F-F269-4FBE-AFD3-73054DD65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B81D-E055-49E9-8392-0C67A2C1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438D25-F7E1-44E1-B64B-FBC49036C6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80ACAB-B851-4445-AEA8-99D3351A6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48B02B-E08A-4C7D-84F7-FA0D81DBBF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F66B63-0E39-48A3-A5A4-7BAEA30695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203110-B05A-49D6-8B1C-FE5FE516D5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D30904-BF5F-4158-8403-6B2B8D439F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C37C66-29EA-485E-BC68-428BFF6C8E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9ACBC8-1891-4474-B7AB-1922A8DCCC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F7C0A0-476A-4BD6-B537-02ACF0B45F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283AC3-4C16-417F-9665-5E29E19BC3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35C14-E9B9-4CA1-A4B2-142358B81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3269A5-23CF-466F-A9F3-8FD5F22031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D0C78E-B9B1-4FB1-BF51-B6336C68D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26D15-613B-437B-9496-75BC5FD686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FBDCD4-22C2-40FA-A443-5C8377E78B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C0F111-9120-44C0-8585-B9BAE755D9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28546A-FDEE-44AD-B602-C75B6F6537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F85E2A-E10E-4B4B-BD0D-B84CE9BADA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4BF054-045B-43E1-9ABF-D890E419A3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BC32E2-10E4-489C-9981-089CC5CE46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844430-4A8A-462A-84DC-BA66747ECE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1678-6A5C-44C6-980C-E4C9F252340A}" type="datetime">
              <a:rPr b="0" sz="900" spc="-1" strike="noStrike">
                <a:solidFill>
                  <a:srgbClr val="898989"/>
                </a:solidFill>
                <a:latin typeface="Calibri"/>
                <a:ea typeface="Calibri"/>
              </a:rPr>
              <a:t>07/30/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1576-8E92-44D9-B0DA-467980C19C99}"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BD50-B8AE-483D-BD93-493201B72794}"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61DC-DB9C-4DB9-A85B-D262EC7DA70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7F3D-360F-4388-B4A8-2D28410F1F18}"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1E14-9FFF-4255-9E6C-FD7987F83B1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262B-3B4F-4EFC-BA62-1A4CF4DEF06C}"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504D-7CF3-4F89-BA88-04728F68E775}"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85D8-0251-433D-85D1-5B59272559A7}"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42C6-7197-4F2D-AE99-6A6B8BD2FF0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5CD5-58DF-410C-8C82-B4DA24E4EFF1}"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D115-BE35-4A4F-ABAD-B8877344D04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5A88-C129-4CDE-B00D-B4421CF7A36F}"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B1C3-D076-4093-9D61-9DADDDC1A843}"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E814-6C56-4DFE-9C58-8526E766CA3D}"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391A-C8B8-4EC3-8E5A-C52933AD774E}"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7F05-195F-4F8A-A1A5-64021D55DBDE}"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882B-DAB3-414B-A4E6-E369A9E91D7A}"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27A1-635C-4F71-833C-D9F40CD8A53F}"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EEEE-CC61-4EA8-93E9-A292B0198228}"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80A8-784D-4EFF-B097-9AB8DCC962E7}"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2E53-E985-449F-9ACE-6C2F2B4D03A7}"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677C-18D1-44D7-9DF9-2960C2EE2E90}"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8C5D-C444-4EA2-808B-C1FEC4CCD96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E529-EAE3-4234-B360-46B63CD7055B}"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3DD4-2CFD-495A-86B5-9935E85DC88E}"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53F7-FC63-47EC-BAE8-985D0A784943}"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A25E-57B1-4236-A13C-92D26F7FC4D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B4F9-D139-4A73-A394-F3C9F6BA8778}" type="datetime">
              <a:rPr b="0" sz="900" spc="-1" strike="noStrike">
                <a:solidFill>
                  <a:srgbClr val="898989"/>
                </a:solidFill>
                <a:latin typeface="微软雅黑"/>
                <a:ea typeface="微软雅黑"/>
              </a:rPr>
              <a:t>07/30/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0821-E9B0-4615-9EEE-F64DD2F55FD0}"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8907-2772-4F02-AAF8-80CD13CFFF18}"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D8AA-787F-4D5A-8C07-9DB1DC41B89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CE7A-E890-497B-A0ED-2A86D023169B}"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529B-413E-4729-A855-1D6B8C01448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1B9C-DE9B-4ED9-8A8C-1547407AC85A}"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E5BA-637A-4881-B852-4F94B50532E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BC11-9C04-4398-AC2C-264205B01350}"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0141-56F7-47B1-B7D7-435D83A8380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CC4C-1F09-4D40-B992-528F5C28B0A3}"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CFBA-8C52-4D57-99EC-96A18DC0244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16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9"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合并方的资本公积（资本溢价或股本溢价）余额不足，被合并方在合并前实现的留存收益在合并资产负债表中未予全额恢复的，合并方应当在会计报表附注中对这一情况进行说明。</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同一控制下合并日的合并资产负债表的编制</a:t>
            </a:r>
            <a:endParaRPr b="0" lang="en-US" sz="2000" spc="-1" strike="noStrike">
              <a:solidFill>
                <a:srgbClr val="262626"/>
              </a:solidFill>
              <a:latin typeface="Arial"/>
            </a:endParaRPr>
          </a:p>
          <a:p>
            <a:pPr>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母公司拥有子公司全部股权</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1</a:t>
            </a:r>
            <a:r>
              <a:rPr b="0" lang="en-US" sz="1200" spc="-1" strike="noStrike">
                <a:solidFill>
                  <a:srgbClr val="000000"/>
                </a:solidFill>
                <a:latin typeface="Arial"/>
              </a:rPr>
              <a:t>】 </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是同一母公司下的两家子公司。</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合并前两家公司的资产负债表如表</a:t>
            </a:r>
            <a:r>
              <a:rPr b="0" lang="en-US" sz="1200" spc="-1" strike="noStrike">
                <a:solidFill>
                  <a:srgbClr val="000000"/>
                </a:solidFill>
                <a:latin typeface="Arial"/>
              </a:rPr>
              <a:t>5-1</a:t>
            </a:r>
            <a:r>
              <a:rPr b="0" lang="zh-CN" sz="1200" spc="-1" strike="noStrike">
                <a:solidFill>
                  <a:srgbClr val="000000"/>
                </a:solidFill>
                <a:latin typeface="Arial"/>
              </a:rPr>
              <a:t>所示：</a:t>
            </a:r>
            <a:endParaRPr b="0" lang="en-US" sz="1200" spc="-1" strike="noStrike">
              <a:solidFill>
                <a:srgbClr val="262626"/>
              </a:solidFill>
              <a:latin typeface="Arial"/>
            </a:endParaRPr>
          </a:p>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表</a:t>
            </a:r>
            <a:r>
              <a:rPr b="0" lang="en-US" sz="1200" spc="-1" strike="noStrike">
                <a:solidFill>
                  <a:srgbClr val="000000"/>
                </a:solidFill>
                <a:latin typeface="Arial"/>
              </a:rPr>
              <a:t>5-1          P</a:t>
            </a:r>
            <a:r>
              <a:rPr b="0" lang="zh-CN" sz="1200" spc="-1" strike="noStrike">
                <a:solidFill>
                  <a:srgbClr val="000000"/>
                </a:solidFill>
                <a:latin typeface="Arial"/>
              </a:rPr>
              <a:t>公司与</a:t>
            </a:r>
            <a:r>
              <a:rPr b="0" lang="en-US" sz="1200" spc="-1" strike="noStrike">
                <a:solidFill>
                  <a:srgbClr val="000000"/>
                </a:solidFill>
                <a:latin typeface="Arial"/>
              </a:rPr>
              <a:t>S</a:t>
            </a:r>
            <a:r>
              <a:rPr b="0" lang="zh-CN" sz="1200" spc="-1" strike="noStrike">
                <a:solidFill>
                  <a:srgbClr val="000000"/>
                </a:solidFill>
                <a:latin typeface="Arial"/>
              </a:rPr>
              <a:t>公司合并前资产负债表             </a:t>
            </a:r>
            <a:endParaRPr b="0" lang="en-US" sz="1200" spc="-1" strike="noStrike">
              <a:solidFill>
                <a:srgbClr val="262626"/>
              </a:solidFill>
              <a:latin typeface="Arial"/>
            </a:endParaRPr>
          </a:p>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                     单位：元</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0" name=""/>
          <p:cNvGraphicFramePr/>
          <p:nvPr/>
        </p:nvGraphicFramePr>
        <p:xfrm>
          <a:off x="1719360" y="1060560"/>
          <a:ext cx="5710320" cy="3779640"/>
        </p:xfrm>
        <a:graphic>
          <a:graphicData uri="http://schemas.openxmlformats.org/drawingml/2006/table">
            <a:tbl>
              <a:tblPr/>
              <a:tblGrid>
                <a:gridCol w="1903320"/>
                <a:gridCol w="1903320"/>
                <a:gridCol w="1903680"/>
              </a:tblGrid>
              <a:tr h="252360">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2 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2 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5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3"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的全部股权，则：</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24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624 0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将母公司的长期股权投资与子公司的所有者权益相抵消，应在合并会计报表工作底稿上编制如下抵销分录：</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24 000</a:t>
            </a:r>
            <a:endParaRPr b="0" lang="en-US" sz="1200" spc="-1" strike="noStrike">
              <a:solidFill>
                <a:srgbClr val="262626"/>
              </a:solidFill>
              <a:latin typeface="Arial"/>
            </a:endParaRPr>
          </a:p>
          <a:p>
            <a:pPr marL="157320" indent="-15732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恢复子公司留存收益中属于母公司的份额：</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84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6 000 </a:t>
            </a:r>
            <a:endParaRPr b="0" lang="en-US" sz="1200" spc="-1" strike="noStrike">
              <a:solidFill>
                <a:srgbClr val="26262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7"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报表工作底稿如表</a:t>
            </a:r>
            <a:r>
              <a:rPr b="0" lang="en-US" sz="1200" spc="-1" strike="noStrike">
                <a:solidFill>
                  <a:srgbClr val="000000"/>
                </a:solidFill>
                <a:latin typeface="Arial"/>
              </a:rPr>
              <a:t>5-2</a:t>
            </a:r>
            <a:r>
              <a:rPr b="0" lang="zh-CN" sz="1200" spc="-1" strike="noStrike">
                <a:solidFill>
                  <a:srgbClr val="000000"/>
                </a:solidFill>
                <a:latin typeface="Arial"/>
              </a:rPr>
              <a:t>所示：</a:t>
            </a:r>
            <a:endParaRPr b="0" lang="en-US" sz="1200" spc="-1" strike="noStrike">
              <a:solidFill>
                <a:srgbClr val="262626"/>
              </a:solidFill>
              <a:latin typeface="Arial"/>
            </a:endParaRPr>
          </a:p>
        </p:txBody>
      </p:sp>
      <p:graphicFrame>
        <p:nvGraphicFramePr>
          <p:cNvPr id="958" name=""/>
          <p:cNvGraphicFramePr/>
          <p:nvPr/>
        </p:nvGraphicFramePr>
        <p:xfrm>
          <a:off x="755640" y="2066760"/>
          <a:ext cx="7704000" cy="2719440"/>
        </p:xfrm>
        <a:graphic>
          <a:graphicData uri="http://schemas.openxmlformats.org/drawingml/2006/table">
            <a:tbl>
              <a:tblPr/>
              <a:tblGrid>
                <a:gridCol w="2279520"/>
                <a:gridCol w="1133640"/>
                <a:gridCol w="1133280"/>
                <a:gridCol w="1052640"/>
                <a:gridCol w="1052640"/>
                <a:gridCol w="1052280"/>
              </a:tblGrid>
              <a:tr h="284400">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51480" marR="51480">
                    <a:lnL>
                      <a:noFill/>
                    </a:lnL>
                    <a:lnR w="5760">
                      <a:solidFill>
                        <a:srgbClr val="000000"/>
                      </a:solidFill>
                    </a:lnR>
                    <a:lnT w="5760">
                      <a:solidFill>
                        <a:srgbClr val="000000"/>
                      </a:solidFill>
                    </a:lnT>
                    <a:lnB w="5760">
                      <a:solidFill>
                        <a:srgbClr val="000000"/>
                      </a:solidFill>
                    </a:lnB>
                    <a:no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抵消分录</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并资产负债表</a:t>
                      </a:r>
                      <a:endParaRPr b="0" lang="en-US" sz="1200" spc="-1" strike="noStrike">
                        <a:solidFill>
                          <a:srgbClr val="000000"/>
                        </a:solidFill>
                        <a:latin typeface="Arial"/>
                      </a:endParaRPr>
                    </a:p>
                  </a:txBody>
                  <a:tcPr anchor="ctr" marL="51480" marR="51480">
                    <a:lnL w="5760">
                      <a:solidFill>
                        <a:srgbClr val="000000"/>
                      </a:solidFill>
                    </a:lnL>
                    <a:lnR>
                      <a:noFill/>
                    </a:lnR>
                    <a:lnT w="5760">
                      <a:solidFill>
                        <a:srgbClr val="000000"/>
                      </a:solidFill>
                    </a:lnT>
                    <a:lnB w="5760">
                      <a:solidFill>
                        <a:srgbClr val="000000"/>
                      </a:solidFill>
                    </a:lnB>
                    <a:noFill/>
                  </a:tcPr>
                </a:tc>
              </a:tr>
              <a:tr h="3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3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92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0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4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9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4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0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9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pic>
        <p:nvPicPr>
          <p:cNvPr id="959" name="图片 2" descr=""/>
          <p:cNvPicPr/>
          <p:nvPr/>
        </p:nvPicPr>
        <p:blipFill>
          <a:blip r:embed="rId1"/>
          <a:stretch/>
        </p:blipFill>
        <p:spPr>
          <a:xfrm>
            <a:off x="828720" y="1314360"/>
            <a:ext cx="7415280" cy="752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0" name=""/>
          <p:cNvGraphicFramePr/>
          <p:nvPr/>
        </p:nvGraphicFramePr>
        <p:xfrm>
          <a:off x="900000" y="1168560"/>
          <a:ext cx="7417080" cy="3294000"/>
        </p:xfrm>
        <a:graphic>
          <a:graphicData uri="http://schemas.openxmlformats.org/drawingml/2006/table">
            <a:tbl>
              <a:tblPr/>
              <a:tblGrid>
                <a:gridCol w="2194200"/>
                <a:gridCol w="1090440"/>
                <a:gridCol w="1092240"/>
                <a:gridCol w="1012680"/>
                <a:gridCol w="1014480"/>
                <a:gridCol w="1013040"/>
              </a:tblGrid>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4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06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10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08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47808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0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9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6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母公司拥有子公司部分股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2</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1</a:t>
            </a:r>
            <a:r>
              <a:rPr b="0" lang="en-US" sz="1200" spc="-1" strike="noStrike">
                <a:solidFill>
                  <a:srgbClr val="000000"/>
                </a:solidFill>
                <a:latin typeface="Arial"/>
              </a:rPr>
              <a:t>】</a:t>
            </a:r>
            <a:r>
              <a:rPr b="0" lang="zh-CN" sz="1200" spc="-1" strike="noStrike">
                <a:solidFill>
                  <a:srgbClr val="000000"/>
                </a:solidFill>
                <a:latin typeface="Arial"/>
              </a:rPr>
              <a:t>，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41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将母公司的长期股权投资与子公司的所有者权益相抵销，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8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恢复子公司留存收益中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pic>
        <p:nvPicPr>
          <p:cNvPr id="970" name="图片 1" descr=""/>
          <p:cNvPicPr/>
          <p:nvPr/>
        </p:nvPicPr>
        <p:blipFill>
          <a:blip r:embed="rId1"/>
          <a:stretch/>
        </p:blipFill>
        <p:spPr>
          <a:xfrm>
            <a:off x="1763640" y="831960"/>
            <a:ext cx="5205600" cy="3968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654120" y="1131840"/>
            <a:ext cx="7835760" cy="178920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五章  购并日合并财务报表的编制</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7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同一控制下合并日的合并利润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利润表应当包括参与合并各方自合并当期期初至合并日所发生的收入、费用和利润。被合并方在合并前实现的净利润，应当在合并利润表中单列项目反映（即在“净利润”项目下单列“其中：被合并方在合并前实现的净利润”项目。）</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同一控制下合并日的合并现金流量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编制同一控制下合并日的合并现金流量表时，如果不涉及合并双方当期发生内部交易产生的现金流量，只需要将合并双方的对应项目金额直接相加即可，和合并日的合并利润表的编制是一样的；如果涉及合并双方当期发生内部交易产生的现金流量，应按照合并财务报表准则规定的有关原则进行抵销。</a:t>
            </a: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7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投资成本等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3</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1</a:t>
            </a:r>
            <a:r>
              <a:rPr b="0" lang="zh-CN" sz="1200" spc="-1" strike="noStrike">
                <a:solidFill>
                  <a:srgbClr val="000000"/>
                </a:solidFill>
                <a:latin typeface="Arial"/>
              </a:rPr>
              <a:t>所示，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3.708</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a:t>
            </a:r>
            <a:r>
              <a:rPr b="0" lang="en-US" sz="1200" spc="-1" strike="noStrike">
                <a:solidFill>
                  <a:srgbClr val="000000"/>
                </a:solidFill>
                <a:latin typeface="Arial"/>
              </a:rPr>
              <a:t>S</a:t>
            </a:r>
            <a:r>
              <a:rPr b="0" lang="zh-CN" sz="1200" spc="-1" strike="noStrike">
                <a:solidFill>
                  <a:srgbClr val="000000"/>
                </a:solidFill>
                <a:latin typeface="Arial"/>
              </a:rPr>
              <a:t>公司各项资产与负债的账面价值和公允价值相同，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41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
        <p:nvSpPr>
          <p:cNvPr id="97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 </a:t>
            </a:r>
            <a:r>
              <a:rPr b="0" lang="zh-CN" sz="1200" spc="-1" strike="noStrike">
                <a:solidFill>
                  <a:srgbClr val="000000"/>
                </a:solidFill>
                <a:latin typeface="Arial"/>
              </a:rPr>
              <a:t>将母公司的长期股权投资与子公司的所有者权益相抵销，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78" name="图片 8" descr=""/>
          <p:cNvPicPr/>
          <p:nvPr/>
        </p:nvPicPr>
        <p:blipFill>
          <a:blip r:embed="rId1"/>
          <a:srcRect l="0" t="13006" r="0" b="0"/>
          <a:stretch/>
        </p:blipFill>
        <p:spPr>
          <a:xfrm>
            <a:off x="928800" y="1419120"/>
            <a:ext cx="7191360" cy="3381480"/>
          </a:xfrm>
          <a:prstGeom prst="rect">
            <a:avLst/>
          </a:prstGeom>
          <a:ln w="0">
            <a:noFill/>
          </a:ln>
        </p:spPr>
      </p:pic>
      <p:pic>
        <p:nvPicPr>
          <p:cNvPr id="979" name="图片 2" descr=""/>
          <p:cNvPicPr/>
          <p:nvPr/>
        </p:nvPicPr>
        <p:blipFill>
          <a:blip r:embed="rId2"/>
          <a:stretch/>
        </p:blipFill>
        <p:spPr>
          <a:xfrm>
            <a:off x="1044720" y="771480"/>
            <a:ext cx="7019640" cy="706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1" name="图片 8" descr=""/>
          <p:cNvPicPr/>
          <p:nvPr/>
        </p:nvPicPr>
        <p:blipFill>
          <a:blip r:embed="rId1"/>
          <a:stretch/>
        </p:blipFill>
        <p:spPr>
          <a:xfrm>
            <a:off x="1052640" y="1352520"/>
            <a:ext cx="7038720" cy="2438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投资成本大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4</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5</a:t>
            </a:r>
            <a:r>
              <a:rPr b="0" lang="zh-CN" sz="1200" spc="-1" strike="noStrike">
                <a:solidFill>
                  <a:srgbClr val="000000"/>
                </a:solidFill>
                <a:latin typeface="Arial"/>
              </a:rPr>
              <a:t>所示，</a:t>
            </a:r>
            <a:endParaRPr b="0" lang="en-US" sz="1200" spc="-1" strike="noStrike">
              <a:solidFill>
                <a:srgbClr val="262626"/>
              </a:solidFill>
              <a:latin typeface="Arial"/>
            </a:endParaRPr>
          </a:p>
        </p:txBody>
      </p:sp>
      <p:sp>
        <p:nvSpPr>
          <p:cNvPr id="983"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4" name="图片 9" descr=""/>
          <p:cNvPicPr/>
          <p:nvPr/>
        </p:nvPicPr>
        <p:blipFill>
          <a:blip r:embed="rId1"/>
          <a:srcRect l="0" t="17180" r="0" b="0"/>
          <a:stretch/>
        </p:blipFill>
        <p:spPr>
          <a:xfrm>
            <a:off x="1041480" y="2571840"/>
            <a:ext cx="7057800" cy="2082600"/>
          </a:xfrm>
          <a:prstGeom prst="rect">
            <a:avLst/>
          </a:prstGeom>
          <a:ln w="0">
            <a:noFill/>
          </a:ln>
        </p:spPr>
      </p:pic>
      <p:pic>
        <p:nvPicPr>
          <p:cNvPr id="985" name="图片 2" descr=""/>
          <p:cNvPicPr/>
          <p:nvPr/>
        </p:nvPicPr>
        <p:blipFill>
          <a:blip r:embed="rId2"/>
          <a:stretch/>
        </p:blipFill>
        <p:spPr>
          <a:xfrm>
            <a:off x="1413000" y="2112840"/>
            <a:ext cx="6315120" cy="42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87"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8" name="图片 8" descr=""/>
          <p:cNvPicPr/>
          <p:nvPr/>
        </p:nvPicPr>
        <p:blipFill>
          <a:blip r:embed="rId1"/>
          <a:stretch/>
        </p:blipFill>
        <p:spPr>
          <a:xfrm>
            <a:off x="1050840" y="885960"/>
            <a:ext cx="7039080" cy="3867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4.5</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700 000</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合并工作底稿上，应将子公司高估或低估的资产、负债项目调整至公允价值，因此本例的工作底稿上应有如下一笔调整分录，一笔抵消分录。</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调整分录：</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0" name="PlaceHolder 1"/>
          <p:cNvSpPr>
            <a:spLocks noGrp="1"/>
          </p:cNvSpPr>
          <p:nvPr>
            <p:ph type="title"/>
          </p:nvPr>
        </p:nvSpPr>
        <p:spPr>
          <a:xfrm>
            <a:off x="960120" y="343080"/>
            <a:ext cx="742788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960120" y="1131840"/>
            <a:ext cx="7219800" cy="3075120"/>
          </a:xfrm>
          <a:prstGeom prst="rect">
            <a:avLst/>
          </a:prstGeom>
          <a:noFill/>
          <a:ln w="0">
            <a:noFill/>
          </a:ln>
        </p:spPr>
        <p:txBody>
          <a:bodyPr lIns="101520" rIns="82440" tIns="0" bIns="0" anchor="t">
            <a:normAutofit fontScale="92000"/>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抵消分录：</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96 4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中：少数股东权益＝</a:t>
            </a:r>
            <a:r>
              <a:rPr b="0" lang="en-US" sz="1200" spc="-1" strike="noStrike">
                <a:solidFill>
                  <a:srgbClr val="000000"/>
                </a:solidFill>
                <a:latin typeface="Arial"/>
              </a:rPr>
              <a:t>S</a:t>
            </a:r>
            <a:r>
              <a:rPr b="0" lang="zh-CN" sz="1200" spc="-1" strike="noStrike">
                <a:solidFill>
                  <a:srgbClr val="000000"/>
                </a:solidFill>
                <a:latin typeface="Arial"/>
              </a:rPr>
              <a:t>公司可辨认净资产的公允价值</a:t>
            </a:r>
            <a:r>
              <a:rPr b="0" lang="en-US" sz="1200" spc="-1" strike="noStrike">
                <a:solidFill>
                  <a:srgbClr val="000000"/>
                </a:solidFill>
                <a:latin typeface="Arial"/>
              </a:rPr>
              <a:t>×</a:t>
            </a:r>
            <a:r>
              <a:rPr b="0" lang="zh-CN" sz="1200" spc="-1" strike="noStrike">
                <a:solidFill>
                  <a:srgbClr val="000000"/>
                </a:solidFill>
                <a:latin typeface="Arial"/>
              </a:rPr>
              <a:t>少数股东权益持股比例＝</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96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商誉＝企业合并成本－合并中取得的被购买方可辨认净资产公允价值份额＝</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a:t>
            </a:r>
            <a:r>
              <a:rPr b="0" lang="en-US" sz="1200" spc="-1" strike="noStrike">
                <a:solidFill>
                  <a:srgbClr val="000000"/>
                </a:solidFill>
                <a:latin typeface="Arial"/>
              </a:rPr>
              <a:t>3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报表工作底稿如表</a:t>
            </a:r>
            <a:r>
              <a:rPr b="0" lang="en-US" sz="1200" spc="-1" strike="noStrike">
                <a:solidFill>
                  <a:srgbClr val="000000"/>
                </a:solidFill>
                <a:latin typeface="Arial"/>
              </a:rPr>
              <a:t>5-6</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359240" y="1185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421160" y="119700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5076720" y="1263600"/>
            <a:ext cx="3527640" cy="37476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购并日合并财务报表概述</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359240" y="2116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421160" y="212724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5076720" y="2190600"/>
            <a:ext cx="336888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同一控制下购并日的合并财务报表编制</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359240" y="307188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421160" y="3083040"/>
            <a:ext cx="36504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5076720" y="3147840"/>
            <a:ext cx="324036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非同一控制下购并日的合并财务报表编制</a:t>
            </a:r>
            <a:endParaRPr b="0" lang="en-US" sz="2000" spc="-1" strike="noStrike">
              <a:solidFill>
                <a:srgbClr val="000000"/>
              </a:solidFill>
              <a:latin typeface="Arial"/>
            </a:endParaRPr>
          </a:p>
        </p:txBody>
      </p:sp>
      <p:sp>
        <p:nvSpPr>
          <p:cNvPr id="934"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5"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96" name="内容占位符 1" descr=""/>
          <p:cNvPicPr/>
          <p:nvPr/>
        </p:nvPicPr>
        <p:blipFill>
          <a:blip r:embed="rId1"/>
          <a:stretch/>
        </p:blipFill>
        <p:spPr>
          <a:xfrm>
            <a:off x="1187280" y="896760"/>
            <a:ext cx="6748560" cy="646200"/>
          </a:xfrm>
          <a:prstGeom prst="rect">
            <a:avLst/>
          </a:prstGeom>
          <a:ln w="0">
            <a:noFill/>
          </a:ln>
        </p:spPr>
      </p:pic>
      <p:pic>
        <p:nvPicPr>
          <p:cNvPr id="997" name="图片 8" descr=""/>
          <p:cNvPicPr/>
          <p:nvPr/>
        </p:nvPicPr>
        <p:blipFill>
          <a:blip r:embed="rId2"/>
          <a:srcRect l="0" t="15899" r="0" b="0"/>
          <a:stretch/>
        </p:blipFill>
        <p:spPr>
          <a:xfrm>
            <a:off x="974880" y="1492200"/>
            <a:ext cx="7191360" cy="3179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9"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00" name="图片 2" descr=""/>
          <p:cNvPicPr/>
          <p:nvPr/>
        </p:nvPicPr>
        <p:blipFill>
          <a:blip r:embed="rId1"/>
          <a:stretch/>
        </p:blipFill>
        <p:spPr>
          <a:xfrm>
            <a:off x="1042920" y="1033560"/>
            <a:ext cx="7058160" cy="3076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投资成本小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5</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5</a:t>
            </a:r>
            <a:r>
              <a:rPr b="0" lang="zh-CN" sz="1200" spc="-1" strike="noStrike">
                <a:solidFill>
                  <a:srgbClr val="000000"/>
                </a:solidFill>
                <a:latin typeface="Arial"/>
              </a:rPr>
              <a:t>所示，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3.5</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 000</a:t>
            </a:r>
            <a:endParaRPr b="0" lang="en-US" sz="1200" spc="-1" strike="noStrike">
              <a:solidFill>
                <a:srgbClr val="262626"/>
              </a:solidFill>
              <a:latin typeface="Arial"/>
            </a:endParaRPr>
          </a:p>
        </p:txBody>
      </p:sp>
      <p:sp>
        <p:nvSpPr>
          <p:cNvPr id="100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合并工作底稿上，应将子公司高估或低估的资产、负债项目调整至公允价值，因此本例的工作底稿上应有如下一笔调整分录，一笔抵销分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调整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 </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由于合并成本</a:t>
            </a:r>
            <a:r>
              <a:rPr b="0" lang="en-US" sz="1200" spc="-1" strike="noStrike">
                <a:solidFill>
                  <a:srgbClr val="000000"/>
                </a:solidFill>
                <a:latin typeface="Arial"/>
              </a:rPr>
              <a:t>700 000</a:t>
            </a:r>
            <a:r>
              <a:rPr b="0" lang="zh-CN" sz="1200" spc="-1" strike="noStrike">
                <a:solidFill>
                  <a:srgbClr val="000000"/>
                </a:solidFill>
                <a:latin typeface="Arial"/>
              </a:rPr>
              <a:t>元小于合并中取得的</a:t>
            </a:r>
            <a:r>
              <a:rPr b="0" lang="en-US" sz="1200" spc="-1" strike="noStrike">
                <a:solidFill>
                  <a:srgbClr val="000000"/>
                </a:solidFill>
                <a:latin typeface="Arial"/>
              </a:rPr>
              <a:t>S</a:t>
            </a:r>
            <a:r>
              <a:rPr b="0" lang="zh-CN" sz="1200" spc="-1" strike="noStrike">
                <a:solidFill>
                  <a:srgbClr val="000000"/>
                </a:solidFill>
                <a:latin typeface="Arial"/>
              </a:rPr>
              <a:t>公司可辨认净资产公允价值份额</a:t>
            </a:r>
            <a:r>
              <a:rPr b="0" lang="en-US" sz="1200" spc="-1" strike="noStrike">
                <a:solidFill>
                  <a:srgbClr val="000000"/>
                </a:solidFill>
                <a:latin typeface="Arial"/>
              </a:rPr>
              <a:t>867 6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假设两家公司均按照净利润的</a:t>
            </a:r>
            <a:r>
              <a:rPr b="0" lang="en-US" sz="1200" spc="-1" strike="noStrike">
                <a:solidFill>
                  <a:srgbClr val="000000"/>
                </a:solidFill>
                <a:latin typeface="Arial"/>
              </a:rPr>
              <a:t>10%</a:t>
            </a:r>
            <a:r>
              <a:rPr b="0" lang="zh-CN" sz="1200" spc="-1" strike="noStrike">
                <a:solidFill>
                  <a:srgbClr val="000000"/>
                </a:solidFill>
                <a:latin typeface="Arial"/>
              </a:rPr>
              <a:t>提取盈余公积，则差额</a:t>
            </a:r>
            <a:r>
              <a:rPr b="0" lang="en-US" sz="1200" spc="-1" strike="noStrike">
                <a:solidFill>
                  <a:srgbClr val="000000"/>
                </a:solidFill>
                <a:latin typeface="Arial"/>
              </a:rPr>
              <a:t>167 600</a:t>
            </a:r>
            <a:r>
              <a:rPr b="0" lang="zh-CN" sz="1200" spc="-1" strike="noStrike">
                <a:solidFill>
                  <a:srgbClr val="000000"/>
                </a:solidFill>
                <a:latin typeface="Arial"/>
              </a:rPr>
              <a:t>元应按</a:t>
            </a:r>
            <a:r>
              <a:rPr b="0" lang="en-US" sz="1200" spc="-1" strike="noStrike">
                <a:solidFill>
                  <a:srgbClr val="000000"/>
                </a:solidFill>
                <a:latin typeface="Arial"/>
              </a:rPr>
              <a:t>10%</a:t>
            </a:r>
            <a:r>
              <a:rPr b="0" lang="zh-CN" sz="1200" spc="-1" strike="noStrike">
                <a:solidFill>
                  <a:srgbClr val="000000"/>
                </a:solidFill>
                <a:latin typeface="Arial"/>
              </a:rPr>
              <a:t>和</a:t>
            </a:r>
            <a:r>
              <a:rPr b="0" lang="en-US" sz="1200" spc="-1" strike="noStrike">
                <a:solidFill>
                  <a:srgbClr val="000000"/>
                </a:solidFill>
                <a:latin typeface="Arial"/>
              </a:rPr>
              <a:t>90%</a:t>
            </a:r>
            <a:r>
              <a:rPr b="0" lang="zh-CN" sz="1200" spc="-1" strike="noStrike">
                <a:solidFill>
                  <a:srgbClr val="000000"/>
                </a:solidFill>
                <a:latin typeface="Arial"/>
              </a:rPr>
              <a:t>的比例调整盈余公积和未分配利润。</a:t>
            </a:r>
            <a:endParaRPr b="0" lang="en-US" sz="1200" spc="-1" strike="noStrike">
              <a:solidFill>
                <a:srgbClr val="262626"/>
              </a:solidFill>
              <a:latin typeface="Arial"/>
            </a:endParaRPr>
          </a:p>
        </p:txBody>
      </p:sp>
      <p:sp>
        <p:nvSpPr>
          <p:cNvPr id="100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抵消分录：</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0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6 4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6 76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150 840</a:t>
            </a:r>
            <a:endParaRPr b="0" lang="en-US" sz="1200" spc="-1" strike="noStrike">
              <a:solidFill>
                <a:srgbClr val="262626"/>
              </a:solidFill>
              <a:latin typeface="Arial"/>
            </a:endParaRPr>
          </a:p>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中：少数股东权益＝</a:t>
            </a:r>
            <a:r>
              <a:rPr b="0" lang="en-US" sz="1200" spc="-1" strike="noStrike">
                <a:solidFill>
                  <a:srgbClr val="000000"/>
                </a:solidFill>
                <a:latin typeface="Arial"/>
              </a:rPr>
              <a:t>S</a:t>
            </a:r>
            <a:r>
              <a:rPr b="0" lang="zh-CN" sz="1200" spc="-1" strike="noStrike">
                <a:solidFill>
                  <a:srgbClr val="000000"/>
                </a:solidFill>
                <a:latin typeface="Arial"/>
              </a:rPr>
              <a:t>公司可辨认净资产的公允价值</a:t>
            </a:r>
            <a:r>
              <a:rPr b="0" lang="en-US" sz="1200" spc="-1" strike="noStrike">
                <a:solidFill>
                  <a:srgbClr val="000000"/>
                </a:solidFill>
                <a:latin typeface="Arial"/>
              </a:rPr>
              <a:t>×</a:t>
            </a:r>
            <a:r>
              <a:rPr b="0" lang="zh-CN" sz="1200" spc="-1" strike="noStrike">
                <a:solidFill>
                  <a:srgbClr val="000000"/>
                </a:solidFill>
                <a:latin typeface="Arial"/>
              </a:rPr>
              <a:t>少数股东权益持股比例＝</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96 400</a:t>
            </a:r>
            <a:r>
              <a:rPr b="0" lang="zh-CN" sz="1200" spc="-1" strike="noStrike">
                <a:solidFill>
                  <a:srgbClr val="000000"/>
                </a:solidFill>
                <a:latin typeface="Arial"/>
              </a:rPr>
              <a:t>（元）</a:t>
            </a:r>
            <a:endParaRPr b="0" lang="en-US" sz="1200" spc="-1" strike="noStrike">
              <a:solidFill>
                <a:srgbClr val="262626"/>
              </a:solidFill>
              <a:latin typeface="Arial"/>
            </a:endParaRPr>
          </a:p>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TextBox 2"/>
          <p:cNvSpPr/>
          <p:nvPr/>
        </p:nvSpPr>
        <p:spPr>
          <a:xfrm>
            <a:off x="1719360" y="1039680"/>
            <a:ext cx="35654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宋体"/>
              </a:rPr>
              <a:t>合并报表工作底稿如表</a:t>
            </a:r>
            <a:r>
              <a:rPr b="0" lang="en-US" sz="1500" spc="-1" strike="noStrike">
                <a:solidFill>
                  <a:srgbClr val="ffffff"/>
                </a:solidFill>
                <a:latin typeface="微软雅黑"/>
                <a:ea typeface="宋体"/>
              </a:rPr>
              <a:t>5-7</a:t>
            </a:r>
            <a:r>
              <a:rPr b="0" lang="zh-CN" sz="1500" spc="-1" strike="noStrike">
                <a:solidFill>
                  <a:srgbClr val="ffffff"/>
                </a:solidFill>
                <a:latin typeface="微软雅黑"/>
                <a:ea typeface="宋体"/>
              </a:rPr>
              <a:t>所示：</a:t>
            </a:r>
            <a:endParaRPr b="0" lang="en-US" sz="1500" spc="-1" strike="noStrike">
              <a:solidFill>
                <a:srgbClr val="000000"/>
              </a:solidFill>
              <a:latin typeface="Arial"/>
            </a:endParaRPr>
          </a:p>
        </p:txBody>
      </p:sp>
      <p:sp>
        <p:nvSpPr>
          <p:cNvPr id="100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09" name="内容占位符 1" descr=""/>
          <p:cNvPicPr/>
          <p:nvPr/>
        </p:nvPicPr>
        <p:blipFill>
          <a:blip r:embed="rId1"/>
          <a:stretch/>
        </p:blipFill>
        <p:spPr>
          <a:xfrm>
            <a:off x="1004760" y="1224000"/>
            <a:ext cx="7066080" cy="700200"/>
          </a:xfrm>
          <a:prstGeom prst="rect">
            <a:avLst/>
          </a:prstGeom>
          <a:ln w="0">
            <a:noFill/>
          </a:ln>
        </p:spPr>
      </p:pic>
      <p:pic>
        <p:nvPicPr>
          <p:cNvPr id="1010" name="图片 9" descr=""/>
          <p:cNvPicPr/>
          <p:nvPr/>
        </p:nvPicPr>
        <p:blipFill>
          <a:blip r:embed="rId2"/>
          <a:srcRect l="0" t="15980" r="0" b="0"/>
          <a:stretch/>
        </p:blipFill>
        <p:spPr>
          <a:xfrm>
            <a:off x="1004760" y="1924200"/>
            <a:ext cx="7134480" cy="2489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13" name="图片 8" descr=""/>
          <p:cNvPicPr/>
          <p:nvPr/>
        </p:nvPicPr>
        <p:blipFill>
          <a:blip r:embed="rId1"/>
          <a:stretch/>
        </p:blipFill>
        <p:spPr>
          <a:xfrm>
            <a:off x="1036800" y="1106640"/>
            <a:ext cx="7067520" cy="3238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图片 2" descr=""/>
          <p:cNvPicPr/>
          <p:nvPr/>
        </p:nvPicPr>
        <p:blipFill>
          <a:blip r:embed="rId1"/>
          <a:stretch/>
        </p:blipFill>
        <p:spPr>
          <a:xfrm>
            <a:off x="2771640" y="2932200"/>
            <a:ext cx="3025800" cy="1922400"/>
          </a:xfrm>
          <a:prstGeom prst="rect">
            <a:avLst/>
          </a:prstGeom>
          <a:ln w="0">
            <a:noFill/>
          </a:ln>
        </p:spPr>
      </p:pic>
      <p:sp>
        <p:nvSpPr>
          <p:cNvPr id="101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从友谊股份合并百联股份来看权益结合法与购买法</a:t>
            </a:r>
            <a:endParaRPr b="0" lang="en-US" sz="20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一、合并双方的背景及合并过程介绍</a:t>
            </a:r>
            <a:endParaRPr b="0" lang="en-US" sz="14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双方的最终控制方</a:t>
            </a:r>
            <a:r>
              <a:rPr b="0" lang="en-US" sz="1200" spc="-1" strike="noStrike">
                <a:solidFill>
                  <a:srgbClr val="000000"/>
                </a:solidFill>
                <a:latin typeface="微软雅黑"/>
              </a:rPr>
              <a:t>——</a:t>
            </a:r>
            <a:r>
              <a:rPr b="0" lang="zh-CN" sz="1200" spc="-1" strike="noStrike">
                <a:solidFill>
                  <a:srgbClr val="000000"/>
                </a:solidFill>
                <a:latin typeface="微软雅黑"/>
              </a:rPr>
              <a:t>百联集团有限公司（以下简称“百联集团”）是上海市国资委在</a:t>
            </a:r>
            <a:r>
              <a:rPr b="0" lang="en-US" sz="1200" spc="-1" strike="noStrike">
                <a:solidFill>
                  <a:srgbClr val="000000"/>
                </a:solidFill>
                <a:latin typeface="微软雅黑"/>
              </a:rPr>
              <a:t>2003</a:t>
            </a:r>
            <a:r>
              <a:rPr b="0" lang="zh-CN" sz="1200" spc="-1" strike="noStrike">
                <a:solidFill>
                  <a:srgbClr val="000000"/>
                </a:solidFill>
                <a:latin typeface="微软雅黑"/>
              </a:rPr>
              <a:t>年成立的以商贸流通为主营业务的企业集团，其注册资本为</a:t>
            </a:r>
            <a:r>
              <a:rPr b="0" lang="en-US" sz="1200" spc="-1" strike="noStrike">
                <a:solidFill>
                  <a:srgbClr val="000000"/>
                </a:solidFill>
                <a:latin typeface="微软雅黑"/>
              </a:rPr>
              <a:t>10</a:t>
            </a:r>
            <a:r>
              <a:rPr b="0" lang="zh-CN" sz="1200" spc="-1" strike="noStrike">
                <a:solidFill>
                  <a:srgbClr val="000000"/>
                </a:solidFill>
                <a:latin typeface="微软雅黑"/>
              </a:rPr>
              <a:t>亿元。目前，其资产总额超过</a:t>
            </a:r>
            <a:r>
              <a:rPr b="0" lang="en-US" sz="1200" spc="-1" strike="noStrike">
                <a:solidFill>
                  <a:srgbClr val="000000"/>
                </a:solidFill>
                <a:latin typeface="微软雅黑"/>
              </a:rPr>
              <a:t>300</a:t>
            </a:r>
            <a:r>
              <a:rPr b="0" lang="zh-CN" sz="1200" spc="-1" strike="noStrike">
                <a:solidFill>
                  <a:srgbClr val="000000"/>
                </a:solidFill>
                <a:latin typeface="微软雅黑"/>
              </a:rPr>
              <a:t>亿元，是我国规模最大、网点最多的商贸流通企业集团，在</a:t>
            </a:r>
            <a:r>
              <a:rPr b="0" lang="en-US" sz="1200" spc="-1" strike="noStrike">
                <a:solidFill>
                  <a:srgbClr val="000000"/>
                </a:solidFill>
                <a:latin typeface="微软雅黑"/>
              </a:rPr>
              <a:t>2019</a:t>
            </a:r>
            <a:r>
              <a:rPr b="0" lang="zh-CN" sz="1200" spc="-1" strike="noStrike">
                <a:solidFill>
                  <a:srgbClr val="000000"/>
                </a:solidFill>
                <a:latin typeface="微软雅黑"/>
              </a:rPr>
              <a:t>年的“中国</a:t>
            </a:r>
            <a:r>
              <a:rPr b="0" lang="en-US" sz="1200" spc="-1" strike="noStrike">
                <a:solidFill>
                  <a:srgbClr val="000000"/>
                </a:solidFill>
                <a:latin typeface="微软雅黑"/>
              </a:rPr>
              <a:t>500</a:t>
            </a:r>
            <a:r>
              <a:rPr b="0" lang="zh-CN" sz="1200" spc="-1" strike="noStrike">
                <a:solidFill>
                  <a:srgbClr val="000000"/>
                </a:solidFill>
                <a:latin typeface="微软雅黑"/>
              </a:rPr>
              <a:t>强”企业中位列第一百八十六名。合并前合并双方的股权结构如图</a:t>
            </a:r>
            <a:r>
              <a:rPr b="0" lang="en-US" sz="1200" spc="-1" strike="noStrike">
                <a:solidFill>
                  <a:srgbClr val="000000"/>
                </a:solidFill>
                <a:latin typeface="微软雅黑"/>
              </a:rPr>
              <a:t>5-1</a:t>
            </a:r>
            <a:r>
              <a:rPr b="0" lang="zh-CN" sz="1200" spc="-1" strike="noStrike">
                <a:solidFill>
                  <a:srgbClr val="000000"/>
                </a:solidFill>
                <a:latin typeface="微软雅黑"/>
              </a:rPr>
              <a:t>所示。</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友谊股份通过两个阶段实现了对百联股份的并购。首先，友谊股份通过增发股票获得百联股份</a:t>
            </a:r>
            <a:r>
              <a:rPr b="0" lang="en-US" sz="1200" spc="-1" strike="noStrike">
                <a:solidFill>
                  <a:srgbClr val="000000"/>
                </a:solidFill>
                <a:latin typeface="微软雅黑"/>
              </a:rPr>
              <a:t>100</a:t>
            </a:r>
            <a:r>
              <a:rPr b="0" lang="zh-CN" sz="1200" spc="-1" strike="noStrike">
                <a:solidFill>
                  <a:srgbClr val="000000"/>
                </a:solidFill>
                <a:latin typeface="微软雅黑"/>
              </a:rPr>
              <a:t>％的股权，之后百联股份退市；然后，友谊股份向百联集团增发股份，收购百联股份持有的八佰伴</a:t>
            </a:r>
            <a:r>
              <a:rPr b="0" lang="en-US" sz="1200" spc="-1" strike="noStrike">
                <a:solidFill>
                  <a:srgbClr val="000000"/>
                </a:solidFill>
                <a:latin typeface="微软雅黑"/>
              </a:rPr>
              <a:t>36</a:t>
            </a:r>
            <a:r>
              <a:rPr b="0" lang="zh-CN" sz="1200" spc="-1" strike="noStrike">
                <a:solidFill>
                  <a:srgbClr val="000000"/>
                </a:solidFill>
                <a:latin typeface="微软雅黑"/>
              </a:rPr>
              <a:t>％的股权和上海百联投资管理有限公司（以下简称“百联投资公司”）</a:t>
            </a:r>
            <a:r>
              <a:rPr b="0" lang="en-US" sz="1200" spc="-1" strike="noStrike">
                <a:solidFill>
                  <a:srgbClr val="000000"/>
                </a:solidFill>
                <a:latin typeface="微软雅黑"/>
              </a:rPr>
              <a:t>100</a:t>
            </a:r>
            <a:r>
              <a:rPr b="0" lang="zh-CN" sz="1200" spc="-1" strike="noStrike">
                <a:solidFill>
                  <a:srgbClr val="000000"/>
                </a:solidFill>
                <a:latin typeface="微软雅黑"/>
              </a:rPr>
              <a:t>％的股权。</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友谊股份取得对百联股份的控制权，宣告合并成功，百联集团则以</a:t>
            </a:r>
            <a:r>
              <a:rPr b="0" lang="en-US" sz="1200" spc="-1" strike="noStrike">
                <a:solidFill>
                  <a:srgbClr val="000000"/>
                </a:solidFill>
                <a:latin typeface="微软雅黑"/>
              </a:rPr>
              <a:t>49.24</a:t>
            </a:r>
            <a:r>
              <a:rPr b="0" lang="zh-CN" sz="1200" spc="-1" strike="noStrike">
                <a:solidFill>
                  <a:srgbClr val="000000"/>
                </a:solidFill>
                <a:latin typeface="微软雅黑"/>
              </a:rPr>
              <a:t>％的持股比例成为友谊股份（新）的大股东，此时的股权结构如图</a:t>
            </a:r>
            <a:r>
              <a:rPr b="0" lang="en-US" sz="1200" spc="-1" strike="noStrike">
                <a:solidFill>
                  <a:srgbClr val="000000"/>
                </a:solidFill>
                <a:latin typeface="微软雅黑"/>
              </a:rPr>
              <a:t>5-2</a:t>
            </a:r>
            <a:r>
              <a:rPr b="0" lang="zh-CN" sz="1200" spc="-1" strike="noStrike">
                <a:solidFill>
                  <a:srgbClr val="000000"/>
                </a:solidFill>
                <a:latin typeface="微软雅黑"/>
              </a:rPr>
              <a:t>所示。</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pic>
        <p:nvPicPr>
          <p:cNvPr id="1019" name="图片 2" descr=""/>
          <p:cNvPicPr/>
          <p:nvPr/>
        </p:nvPicPr>
        <p:blipFill>
          <a:blip r:embed="rId1"/>
          <a:stretch/>
        </p:blipFill>
        <p:spPr>
          <a:xfrm>
            <a:off x="2627280" y="2427120"/>
            <a:ext cx="3505320" cy="2332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二、合并时点采用权益结合法的会计处理结果</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由于友谊股份与百联股份的最终控制方均为百联集团，因此这笔交易为同一控制下的企业合并，按照准则规定，应当采用权益结合法进行会计处理。合并时点</a:t>
            </a:r>
            <a:r>
              <a:rPr b="0" lang="en-US" sz="1200" spc="-1" strike="noStrike">
                <a:solidFill>
                  <a:srgbClr val="000000"/>
                </a:solidFill>
                <a:latin typeface="微软雅黑"/>
              </a:rPr>
              <a:t>——</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个别财务报表与合并财务报表的财务数据、财务指标的对比情况如表</a:t>
            </a:r>
            <a:r>
              <a:rPr b="0" lang="en-US" sz="1200" spc="-1" strike="noStrike">
                <a:solidFill>
                  <a:srgbClr val="000000"/>
                </a:solidFill>
                <a:latin typeface="微软雅黑"/>
              </a:rPr>
              <a:t>5-8</a:t>
            </a:r>
            <a:r>
              <a:rPr b="0" lang="zh-CN" sz="1200" spc="-1" strike="noStrike">
                <a:solidFill>
                  <a:srgbClr val="000000"/>
                </a:solidFill>
                <a:latin typeface="微软雅黑"/>
              </a:rPr>
              <a:t>和表</a:t>
            </a:r>
            <a:r>
              <a:rPr b="0" lang="en-US" sz="1200" spc="-1" strike="noStrike">
                <a:solidFill>
                  <a:srgbClr val="000000"/>
                </a:solidFill>
                <a:latin typeface="微软雅黑"/>
              </a:rPr>
              <a:t>5-9</a:t>
            </a:r>
            <a:r>
              <a:rPr b="0" lang="zh-CN" sz="1200" spc="-1" strike="noStrike">
                <a:solidFill>
                  <a:srgbClr val="000000"/>
                </a:solidFill>
                <a:latin typeface="微软雅黑"/>
              </a:rPr>
              <a:t>所示。</a:t>
            </a:r>
            <a:endParaRPr b="0" lang="en-US" sz="1200" spc="-1" strike="noStrike">
              <a:solidFill>
                <a:srgbClr val="262626"/>
              </a:solidFill>
              <a:latin typeface="Arial"/>
            </a:endParaRPr>
          </a:p>
        </p:txBody>
      </p:sp>
      <p:sp>
        <p:nvSpPr>
          <p:cNvPr id="102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3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按照我国</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20</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企业合并</a:t>
            </a:r>
            <a:r>
              <a:rPr b="0" lang="en-US" sz="1200" spc="-1" strike="noStrike">
                <a:solidFill>
                  <a:srgbClr val="000000"/>
                </a:solidFill>
                <a:latin typeface="Arial"/>
              </a:rPr>
              <a:t>》</a:t>
            </a:r>
            <a:r>
              <a:rPr b="0" lang="zh-CN" sz="1200" spc="-1" strike="noStrike">
                <a:solidFill>
                  <a:srgbClr val="000000"/>
                </a:solidFill>
                <a:latin typeface="Arial"/>
              </a:rPr>
              <a:t>规定，无论同一控制下的企业合并，还是非同一控制下的企业合并，只要形成母子公司的，都要编制购并日的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同一控制下企业合并采用权益结合法处理。母公司应当编制购并日的合并资产负债表、合并利润表和合并现金流量表。在权益结合法下确认初始投资成本时以子公司净资产的账面价值入账，在编制合并财务报表时也是按子公司净资产的账面价值合并，既不用考虑母公司支付对价的公允价值，又不用考虑子公司净资产的公允价值。因此在同一控制下采用权益结合法编制的合并财务报表不会产生商誉，合并业务也比较简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24" name="图片 3" descr=""/>
          <p:cNvPicPr/>
          <p:nvPr/>
        </p:nvPicPr>
        <p:blipFill>
          <a:blip r:embed="rId1"/>
          <a:stretch/>
        </p:blipFill>
        <p:spPr>
          <a:xfrm>
            <a:off x="552600" y="963720"/>
            <a:ext cx="8038800" cy="3671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5" name="图片 3" descr=""/>
          <p:cNvPicPr/>
          <p:nvPr/>
        </p:nvPicPr>
        <p:blipFill>
          <a:blip r:embed="rId1"/>
          <a:stretch/>
        </p:blipFill>
        <p:spPr>
          <a:xfrm>
            <a:off x="674640" y="885960"/>
            <a:ext cx="7792920" cy="4019400"/>
          </a:xfrm>
          <a:prstGeom prst="rect">
            <a:avLst/>
          </a:prstGeom>
          <a:ln w="0">
            <a:noFill/>
          </a:ln>
        </p:spPr>
      </p:pic>
      <p:sp>
        <p:nvSpPr>
          <p:cNvPr id="102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数据来看，使用权益结合法进行企业合并会计处理后，友谊股份的报表数据并入了原百联股份的资产、负债和利润，因而友谊股份合并财务报表中的资产、负债、所有者权益，以及收入、成本、利润均较个别财务报表有了</a:t>
            </a:r>
            <a:r>
              <a:rPr b="0" lang="zh-CN" sz="1200" spc="-1" strike="noStrike">
                <a:solidFill>
                  <a:srgbClr val="ff0000"/>
                </a:solidFill>
                <a:latin typeface="微软雅黑"/>
              </a:rPr>
              <a:t>很大的增长</a:t>
            </a:r>
            <a:r>
              <a:rPr b="0" lang="zh-CN" sz="1200" spc="-1" strike="noStrike">
                <a:solidFill>
                  <a:srgbClr val="000000"/>
                </a:solidFill>
                <a:latin typeface="微软雅黑"/>
              </a:rPr>
              <a:t>。从财务指标来看，因为采用权益结合法核算后，资产和负债均有</a:t>
            </a:r>
            <a:r>
              <a:rPr b="0" lang="zh-CN" sz="1200" spc="-1" strike="noStrike">
                <a:solidFill>
                  <a:srgbClr val="ff0000"/>
                </a:solidFill>
                <a:latin typeface="微软雅黑"/>
              </a:rPr>
              <a:t>提升</a:t>
            </a:r>
            <a:r>
              <a:rPr b="0" lang="zh-CN" sz="1200" spc="-1" strike="noStrike">
                <a:solidFill>
                  <a:srgbClr val="000000"/>
                </a:solidFill>
                <a:latin typeface="微软雅黑"/>
              </a:rPr>
              <a:t>。此外，权益结合法要求将百联股份在合并时点前的年度利润全部并入合并财务报表，导致合并财务报表中的年度利润出现了</a:t>
            </a:r>
            <a:r>
              <a:rPr b="0" lang="zh-CN" sz="1200" spc="-1" strike="noStrike">
                <a:solidFill>
                  <a:srgbClr val="ff0000"/>
                </a:solidFill>
                <a:latin typeface="微软雅黑"/>
              </a:rPr>
              <a:t>极大的增长</a:t>
            </a:r>
            <a:r>
              <a:rPr b="0" lang="zh-CN" sz="1200" spc="-1" strike="noStrike">
                <a:solidFill>
                  <a:srgbClr val="000000"/>
                </a:solidFill>
                <a:latin typeface="微软雅黑"/>
              </a:rPr>
              <a:t>。可见，合并行为</a:t>
            </a:r>
            <a:r>
              <a:rPr b="0" lang="zh-CN" sz="1200" spc="-1" strike="noStrike">
                <a:solidFill>
                  <a:srgbClr val="ff0000"/>
                </a:solidFill>
                <a:latin typeface="微软雅黑"/>
              </a:rPr>
              <a:t>极大地美化</a:t>
            </a:r>
            <a:r>
              <a:rPr b="0" lang="zh-CN" sz="1200" spc="-1" strike="noStrike">
                <a:solidFill>
                  <a:srgbClr val="000000"/>
                </a:solidFill>
                <a:latin typeface="微软雅黑"/>
              </a:rPr>
              <a:t>了公司经营方面的指标。</a:t>
            </a:r>
            <a:endParaRPr b="0" lang="en-US" sz="1200" spc="-1" strike="noStrike">
              <a:solidFill>
                <a:srgbClr val="262626"/>
              </a:solidFill>
              <a:latin typeface="Arial"/>
            </a:endParaRPr>
          </a:p>
        </p:txBody>
      </p:sp>
      <p:sp>
        <p:nvSpPr>
          <p:cNvPr id="102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三、合并时点采用购买法的会计处理结果</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假设此次合并属于购买法的范畴，即友谊股份购买了百联股份的净资产和经营权，则此交易应当以公允价值进行计量，合并对价与被合并方的可辨认净资产公允价值之差计入商誉或负商誉，期末合并财务报表只需要纳入百联股份在合并后取得的利润。</a:t>
            </a:r>
            <a:endParaRPr b="0" lang="en-US" sz="1200" spc="-1" strike="noStrike">
              <a:solidFill>
                <a:srgbClr val="262626"/>
              </a:solidFill>
              <a:latin typeface="Arial"/>
            </a:endParaRPr>
          </a:p>
        </p:txBody>
      </p:sp>
      <p:sp>
        <p:nvSpPr>
          <p:cNvPr id="1030"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33" name="图片 3" descr=""/>
          <p:cNvPicPr/>
          <p:nvPr/>
        </p:nvPicPr>
        <p:blipFill>
          <a:blip r:embed="rId1"/>
          <a:stretch/>
        </p:blipFill>
        <p:spPr>
          <a:xfrm>
            <a:off x="684360" y="1058760"/>
            <a:ext cx="7878600" cy="3603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36" name="图片 3" descr=""/>
          <p:cNvPicPr/>
          <p:nvPr/>
        </p:nvPicPr>
        <p:blipFill>
          <a:blip r:embed="rId1"/>
          <a:srcRect l="0" t="0" r="0" b="77601"/>
          <a:stretch/>
        </p:blipFill>
        <p:spPr>
          <a:xfrm>
            <a:off x="960480" y="1087560"/>
            <a:ext cx="7219800" cy="1576440"/>
          </a:xfrm>
          <a:prstGeom prst="rect">
            <a:avLst/>
          </a:prstGeom>
          <a:ln w="0">
            <a:noFill/>
          </a:ln>
        </p:spPr>
      </p:pic>
      <p:pic>
        <p:nvPicPr>
          <p:cNvPr id="1037" name="图片 4" descr=""/>
          <p:cNvPicPr/>
          <p:nvPr/>
        </p:nvPicPr>
        <p:blipFill>
          <a:blip r:embed="rId2"/>
          <a:srcRect l="0" t="68438" r="0" b="0"/>
          <a:stretch/>
        </p:blipFill>
        <p:spPr>
          <a:xfrm>
            <a:off x="960480" y="2587680"/>
            <a:ext cx="7219800" cy="2222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数据来看，采用购买法进行会计处理后，友谊股份合并财务报表相比个别财务报表，并入了百联股份在合并时点的资产、负债和所有者权益，因此合并财务报表的总资产和总负债较个别财务报表分别提升了</a:t>
            </a:r>
            <a:r>
              <a:rPr b="0" lang="en-US" sz="1200" spc="-1" strike="noStrike">
                <a:solidFill>
                  <a:srgbClr val="000000"/>
                </a:solidFill>
                <a:latin typeface="微软雅黑"/>
              </a:rPr>
              <a:t>41.81</a:t>
            </a:r>
            <a:r>
              <a:rPr b="0" lang="zh-CN" sz="1200" spc="-1" strike="noStrike">
                <a:solidFill>
                  <a:srgbClr val="000000"/>
                </a:solidFill>
                <a:latin typeface="微软雅黑"/>
              </a:rPr>
              <a:t>％和</a:t>
            </a:r>
            <a:r>
              <a:rPr b="0" lang="en-US" sz="1200" spc="-1" strike="noStrike">
                <a:solidFill>
                  <a:srgbClr val="000000"/>
                </a:solidFill>
                <a:latin typeface="微软雅黑"/>
              </a:rPr>
              <a:t>45.24</a:t>
            </a:r>
            <a:r>
              <a:rPr b="0" lang="zh-CN" sz="1200" spc="-1" strike="noStrike">
                <a:solidFill>
                  <a:srgbClr val="000000"/>
                </a:solidFill>
                <a:latin typeface="微软雅黑"/>
              </a:rPr>
              <a:t>％。因为购买法下存在合并资产，所以总资产价值比权益结合法下的账面价值高。购买法下合并财务报表不并入百联股份在合并前取得的净利润，因而合并时点友谊股份合并财务报表中的利润与个别财务报表</a:t>
            </a:r>
            <a:r>
              <a:rPr b="0" lang="zh-CN" sz="1200" spc="-1" strike="noStrike">
                <a:solidFill>
                  <a:srgbClr val="ff0000"/>
                </a:solidFill>
                <a:latin typeface="微软雅黑"/>
              </a:rPr>
              <a:t>没有差异</a:t>
            </a:r>
            <a:r>
              <a:rPr b="0" lang="zh-CN" sz="1200" spc="-1" strike="noStrike">
                <a:solidFill>
                  <a:srgbClr val="000000"/>
                </a:solidFill>
                <a:latin typeface="微软雅黑"/>
              </a:rPr>
              <a:t>。</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指标来看，因为加入了百联股份的资产和负债，所以友谊股份合并财务报表的资产负债率和权益乘数相比个别财务报表各有</a:t>
            </a:r>
            <a:r>
              <a:rPr b="0" lang="en-US" sz="1200" spc="-1" strike="noStrike">
                <a:solidFill>
                  <a:srgbClr val="000000"/>
                </a:solidFill>
                <a:latin typeface="微软雅黑"/>
              </a:rPr>
              <a:t>2.42</a:t>
            </a:r>
            <a:r>
              <a:rPr b="0" lang="zh-CN" sz="1200" spc="-1" strike="noStrike">
                <a:solidFill>
                  <a:srgbClr val="000000"/>
                </a:solidFill>
                <a:latin typeface="微软雅黑"/>
              </a:rPr>
              <a:t>％和</a:t>
            </a:r>
            <a:r>
              <a:rPr b="0" lang="en-US" sz="1200" spc="-1" strike="noStrike">
                <a:solidFill>
                  <a:srgbClr val="000000"/>
                </a:solidFill>
                <a:latin typeface="微软雅黑"/>
              </a:rPr>
              <a:t>3.18</a:t>
            </a:r>
            <a:r>
              <a:rPr b="0" lang="zh-CN" sz="1200" spc="-1" strike="noStrike">
                <a:solidFill>
                  <a:srgbClr val="000000"/>
                </a:solidFill>
                <a:latin typeface="微软雅黑"/>
              </a:rPr>
              <a:t>％的提升。同时，因为利润等反映经营成果的项目未并入百联股份在合并时点前取得的利润，所以净资产收益率和总资产报酬率的合并财务报表数据较个别财务报表数据分别下降了</a:t>
            </a:r>
            <a:r>
              <a:rPr b="0" lang="en-US" sz="1200" spc="-1" strike="noStrike">
                <a:solidFill>
                  <a:srgbClr val="000000"/>
                </a:solidFill>
                <a:latin typeface="微软雅黑"/>
              </a:rPr>
              <a:t>27.51</a:t>
            </a:r>
            <a:r>
              <a:rPr b="0" lang="zh-CN" sz="1200" spc="-1" strike="noStrike">
                <a:solidFill>
                  <a:srgbClr val="000000"/>
                </a:solidFill>
                <a:latin typeface="微软雅黑"/>
              </a:rPr>
              <a:t>％和</a:t>
            </a:r>
            <a:r>
              <a:rPr b="0" lang="en-US" sz="1200" spc="-1" strike="noStrike">
                <a:solidFill>
                  <a:srgbClr val="000000"/>
                </a:solidFill>
                <a:latin typeface="微软雅黑"/>
              </a:rPr>
              <a:t>29.39</a:t>
            </a:r>
            <a:r>
              <a:rPr b="0" lang="zh-CN" sz="1200" spc="-1" strike="noStrike">
                <a:solidFill>
                  <a:srgbClr val="000000"/>
                </a:solidFill>
                <a:latin typeface="微软雅黑"/>
              </a:rPr>
              <a:t>％。因为购买法不影响本期利润项目，所以合并前后营业净利率</a:t>
            </a:r>
            <a:r>
              <a:rPr b="0" lang="zh-CN" sz="1200" spc="-1" strike="noStrike">
                <a:solidFill>
                  <a:srgbClr val="ff0000"/>
                </a:solidFill>
                <a:latin typeface="微软雅黑"/>
              </a:rPr>
              <a:t>无变化</a:t>
            </a:r>
            <a:r>
              <a:rPr b="0" lang="zh-CN" sz="1200" spc="-1" strike="noStrike">
                <a:solidFill>
                  <a:srgbClr val="000000"/>
                </a:solidFill>
                <a:latin typeface="微软雅黑"/>
              </a:rPr>
              <a:t>。</a:t>
            </a:r>
            <a:endParaRPr b="0" lang="en-US" sz="1200" spc="-1" strike="noStrike">
              <a:solidFill>
                <a:srgbClr val="262626"/>
              </a:solidFill>
              <a:latin typeface="Arial"/>
            </a:endParaRPr>
          </a:p>
        </p:txBody>
      </p:sp>
      <p:sp>
        <p:nvSpPr>
          <p:cNvPr id="1039"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四、两种会计处理方式的差异分析</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权益结合法与购买法的</a:t>
            </a:r>
            <a:r>
              <a:rPr b="0" lang="zh-CN" sz="1200" spc="-1" strike="noStrike">
                <a:solidFill>
                  <a:srgbClr val="ff0000"/>
                </a:solidFill>
                <a:latin typeface="微软雅黑"/>
              </a:rPr>
              <a:t>计量方式不同</a:t>
            </a:r>
            <a:r>
              <a:rPr b="0" lang="zh-CN" sz="1200" spc="-1" strike="noStrike">
                <a:solidFill>
                  <a:srgbClr val="000000"/>
                </a:solidFill>
                <a:latin typeface="微软雅黑"/>
              </a:rPr>
              <a:t>，导致处理后的财务指标存在差异。此差异在合并时点附近更为明显，因此本文选取合并时点</a:t>
            </a:r>
            <a:r>
              <a:rPr b="0" lang="en-US" sz="1200" spc="-1" strike="noStrike">
                <a:solidFill>
                  <a:srgbClr val="000000"/>
                </a:solidFill>
                <a:latin typeface="微软雅黑"/>
              </a:rPr>
              <a:t>——</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的财务指标数据进行对比分析。对比表</a:t>
            </a:r>
            <a:r>
              <a:rPr b="0" lang="en-US" sz="1200" spc="-1" strike="noStrike">
                <a:solidFill>
                  <a:srgbClr val="000000"/>
                </a:solidFill>
                <a:latin typeface="微软雅黑"/>
              </a:rPr>
              <a:t>5-9</a:t>
            </a:r>
            <a:r>
              <a:rPr b="0" lang="zh-CN" sz="1200" spc="-1" strike="noStrike">
                <a:solidFill>
                  <a:srgbClr val="000000"/>
                </a:solidFill>
                <a:latin typeface="微软雅黑"/>
              </a:rPr>
              <a:t>与表</a:t>
            </a:r>
            <a:r>
              <a:rPr b="0" lang="en-US" sz="1200" spc="-1" strike="noStrike">
                <a:solidFill>
                  <a:srgbClr val="000000"/>
                </a:solidFill>
                <a:latin typeface="微软雅黑"/>
              </a:rPr>
              <a:t>5-11</a:t>
            </a:r>
            <a:r>
              <a:rPr b="0" lang="zh-CN" sz="1200" spc="-1" strike="noStrike">
                <a:solidFill>
                  <a:srgbClr val="000000"/>
                </a:solidFill>
                <a:latin typeface="微软雅黑"/>
              </a:rPr>
              <a:t>“</a:t>
            </a:r>
            <a:r>
              <a:rPr b="0" lang="zh-CN" sz="1200" spc="-1" strike="noStrike">
                <a:solidFill>
                  <a:srgbClr val="000000"/>
                </a:solidFill>
                <a:latin typeface="微软雅黑"/>
              </a:rPr>
              <a:t>合并财务报表”列的数据可知，在反映企业财务状况的指标上，权益结合法下的资产负债率和权益乘数均略高于购买法下的数据。其原因在于，购买法下的被合并方资产采用公允价值计量，当此部分资产发生评估增值时，购买法下的合并方总资产价值就高于权益结合法下的合并方总资产价值，从而导致两种处理方式下资产负债率和权益乘数的差异</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在反映企业经营状况的指标上，</a:t>
            </a:r>
            <a:r>
              <a:rPr b="0" lang="zh-CN" sz="1200" spc="-1" strike="noStrike">
                <a:solidFill>
                  <a:srgbClr val="ff0000"/>
                </a:solidFill>
                <a:latin typeface="微软雅黑"/>
              </a:rPr>
              <a:t>权益结合法下的每股收益、净资产收益率、总资产报酬率和总资产周转率均明显高于购买法下的数据</a:t>
            </a:r>
            <a:r>
              <a:rPr b="0" lang="zh-CN" sz="1200" spc="-1" strike="noStrike">
                <a:solidFill>
                  <a:srgbClr val="000000"/>
                </a:solidFill>
                <a:latin typeface="微软雅黑"/>
              </a:rPr>
              <a:t>。其原因在于，权益结合法下合并财务报表层面并入了被合并方在合并年度的全年利润，而购买法下并不将这部分利润并入合并财务报表，导致两种处理方式下的年度利润产生巨大差异，也导致相关财务指标的巨大差异，此差异在合并时点前后更为明显。另外，</a:t>
            </a:r>
            <a:r>
              <a:rPr b="0" lang="zh-CN" sz="1200" spc="-1" strike="noStrike">
                <a:solidFill>
                  <a:srgbClr val="ff0000"/>
                </a:solidFill>
                <a:latin typeface="微软雅黑"/>
              </a:rPr>
              <a:t>权益结合法的处理方式导致总股数增加，使每股净资产低于购买法下的数值</a:t>
            </a:r>
            <a:r>
              <a:rPr b="0" lang="zh-CN" sz="1200" spc="-1" strike="noStrike">
                <a:solidFill>
                  <a:srgbClr val="000000"/>
                </a:solidFill>
                <a:latin typeface="微软雅黑"/>
              </a:rPr>
              <a:t>。但总体而言，权益结合法提升了合并财务报表中经营状况相关指标的值，起到了美化财务报表的作用。</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4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五、案例启示</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对同一控制下的企业合并，两种会计处理方式各有</a:t>
            </a:r>
            <a:r>
              <a:rPr b="0" lang="zh-CN" sz="1200" spc="-1" strike="noStrike">
                <a:solidFill>
                  <a:srgbClr val="ff0000"/>
                </a:solidFill>
                <a:latin typeface="微软雅黑"/>
              </a:rPr>
              <a:t>优势</a:t>
            </a:r>
            <a:r>
              <a:rPr b="0" lang="zh-CN" sz="1200" spc="-1" strike="noStrike">
                <a:solidFill>
                  <a:srgbClr val="000000"/>
                </a:solidFill>
                <a:latin typeface="微软雅黑"/>
              </a:rPr>
              <a:t>。权益结合法采用账面价值进行核算，有助于企业所有者评价经营者的经营效果，并且可以防止经营者通过操纵公允价值来改变利润，提供的信息更可靠；而采用公允价值计量的购买法能够提供更相关的价值信息，提升信息对投资者的决策有用性。此外，购买法增加了合并资产的总价值，权益结合法则增加了本期利润，使本期的盈利指标膨胀。</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两种会计处理方法也都存在</a:t>
            </a:r>
            <a:r>
              <a:rPr b="0" lang="zh-CN" sz="1200" spc="-1" strike="noStrike">
                <a:solidFill>
                  <a:srgbClr val="ff0000"/>
                </a:solidFill>
                <a:latin typeface="微软雅黑"/>
              </a:rPr>
              <a:t>漏洞</a:t>
            </a:r>
            <a:r>
              <a:rPr b="0" lang="zh-CN" sz="1200" spc="-1" strike="noStrike">
                <a:solidFill>
                  <a:srgbClr val="000000"/>
                </a:solidFill>
                <a:latin typeface="微软雅黑"/>
              </a:rPr>
              <a:t>。采用权益结合法对企业合并交易进行处理时，合并方可以通过调整合并时点和出售评估增值的资产来增加企业当期利润，这种潜在的操纵利润的可能性是权益结合法最大的缺点。在此方面，购买法有一定的优势，但合并方易于操纵利润以及公允价值评估的不准确性是其最大的缺点。现有相关研究的重点仍为如何改进同一控制下企业合并的会计处理方法，以提升企业合并中会计信息的可靠性和可比性。</a:t>
            </a:r>
            <a:endParaRPr b="0" lang="en-US" sz="1200" spc="-1" strike="noStrike">
              <a:solidFill>
                <a:srgbClr val="262626"/>
              </a:solidFill>
              <a:latin typeface="Arial"/>
            </a:endParaRPr>
          </a:p>
        </p:txBody>
      </p:sp>
      <p:sp>
        <p:nvSpPr>
          <p:cNvPr id="1043"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根据上述资料，请思考权益结合法与购买法的区别，以及两种会计处理方式带来的经济后果的差异。对同一控制下的企业合并，你认为选择哪种会计处理方法更合理？</a:t>
            </a:r>
            <a:endParaRPr b="0" lang="en-US" sz="1200" spc="-1" strike="noStrike">
              <a:solidFill>
                <a:srgbClr val="262626"/>
              </a:solidFill>
              <a:latin typeface="Arial"/>
            </a:endParaRPr>
          </a:p>
        </p:txBody>
      </p:sp>
      <p:sp>
        <p:nvSpPr>
          <p:cNvPr id="104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3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非同一控制下企业合并采用购买法处理，由于在编制购并日合并财务报表时只涉及到股权的取得，不存在集团内部交易，因此母公司只编制购并日的合并资产负债表，不需要编制合并利润表和合并现金流量表。在购并日编制合并资产负债表时，先要统一子公司的会计政策和会计期间，使子公司与母公司的会计政策和会计期间保持一致。然后确认子公司在购并日净资产的公允价值。最后编制相关的抵销分录，消除母子公司之间重复计算的部分。由于是购并日企业合并初期，因此抵销分录也比较简单，主要涉及的是长期股权投资与净资产之间的抵销。</a:t>
            </a:r>
            <a:endParaRPr b="0" lang="en-US" sz="1200" spc="-1" strike="noStrike">
              <a:solidFill>
                <a:srgbClr val="26262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47"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48"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4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的企业合并和非同一控制下的企业合并的不同主要表现在两个方面：第一，在确认初始投资成本和编制合并财务报表时，非同一控制下采用购买法，是以公允价值为基础计量的，而同一控制下采用权益结合法，是以账面价值为基础计量的。第二，在购并日编制合并报表时，非同一控制下只需要编制合并资产负债表，而同一控制下需要编制三张合并报表，即合并资产负债表、合并利润表和合并现金流量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的企业合并中，合并方在合并后取得对被合并方生产经营决策的控制权，并且被合并方在企业合并后仍然继续经营，合并方在合并日涉及两个方面的问题：一是对因该项企业合并形成的对被合并方的长期股权投资的确认和计量问题；二是合并日合并财务报表的编制问题。长期股权投资的确认和计量问题在中级财务会计相关章节已经介绍，此处不再赘述，下面重点介绍合并日合并财务报表的编制。编制合并日的财务报表时，一般包括合并资产负债表、合并利润表及合并现金流量表。</a:t>
            </a: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合并日，被合并方的有关资产、负债应当以其账面价值（合并方与被合并方采用的会计政策、会计期间不同的，指按照合并方的会计政策、会计期间，对被合并方有关资产、负债经调整后的账面价值）并入合并财务报表。需要注意的是，这里的账面价值是指被合并方的资产、负债在最终控制方财务报表中的账面价值。合并方与被合并方在合并日及以前期间发生的交易，应作为内部交易进行抵消。</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企业合并的基本处理原则是视同合并后形成的报告主体在合并日及以前期间一直存在，在合并资产负债表中，对于被合并方在企业合并前实现的留存收益（盈余公积和未分配利润之和）中归属于合并方的部分，应按以下规定，自合并方的资本公积转入留存收益。</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确认形成控股合并的长期股权投资后，合并方账面资本公积（资本溢价或股本溢价）贷方余额</a:t>
            </a:r>
            <a:r>
              <a:rPr b="1" lang="zh-CN" sz="1200" spc="-1" strike="noStrike">
                <a:solidFill>
                  <a:srgbClr val="ff0000"/>
                </a:solidFill>
                <a:latin typeface="Arial"/>
              </a:rPr>
              <a:t>大于</a:t>
            </a:r>
            <a:r>
              <a:rPr b="0" lang="zh-CN" sz="1200" spc="-1" strike="noStrike">
                <a:solidFill>
                  <a:srgbClr val="000000"/>
                </a:solidFill>
                <a:latin typeface="Arial"/>
              </a:rPr>
              <a:t>被合并方在合并前实现的留存收益中归属于合并方的部分的，在合并资产负债表中，应将被合并方在合并前实现的留存收益中归属于合并方的部分自“资本公积”转入“盈余公积”和“未分配利润”。在合并工作底稿中，借记“资本公积”项目，贷记“盈余公积”和“未分配利润”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确认形成控股合并的长期股权投资后，合并方账面资本公积（资本溢价或股本溢价）贷方余额</a:t>
            </a:r>
            <a:r>
              <a:rPr b="1" lang="zh-CN" sz="1200" spc="-1" strike="noStrike">
                <a:solidFill>
                  <a:srgbClr val="ff0000"/>
                </a:solidFill>
                <a:latin typeface="Arial"/>
              </a:rPr>
              <a:t>小于</a:t>
            </a:r>
            <a:r>
              <a:rPr b="0" lang="zh-CN" sz="1200" spc="-1" strike="noStrike">
                <a:solidFill>
                  <a:srgbClr val="000000"/>
                </a:solidFill>
                <a:latin typeface="Arial"/>
              </a:rPr>
              <a:t>被合并方在合并前实现的留存收益中归属于合并方的部分的，在合并资产负债表中，应以合并方资本公积（资本溢价或股本溢价）的贷方余额为限，将被合并方在企业合并前实现的留存收益中归属于合并方的部分自“资本公积”转入“盈余公积”和“未分配利润”。在合并工作底稿中，借记“资本公积”项目，贷记“盈余公积”和“未分配利润”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7:19:53Z</dcterms:modified>
  <cp:revision>2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126D3E5A5A949DD8E22B51C7ADB0CCD_12</vt:lpwstr>
  </property>
  <property fmtid="{D5CDD505-2E9C-101B-9397-08002B2CF9AE}" pid="3" name="KSOProductBuildVer">
    <vt:lpwstr>2052-12.1.0.17147</vt:lpwstr>
  </property>
</Properties>
</file>